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076D-B954-484E-84F8-C5F7953B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A5FF-C435-43A5-BD6A-2822C127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0EE-A5D9-431F-B1DA-9A0D59F1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59D-DBCC-4F21-BCA5-42850647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DBA-F91A-4F4E-A767-E27203BC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D7E-E8DB-42CD-9B39-8E14A894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C58E-A67F-421C-A1B2-AECDFE93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797-B683-4E60-B06F-B63E584A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3F7-89D4-45B3-B0D6-B41F3333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859-46D3-4821-88FE-6FEDC253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9FA-BAC1-4C0E-8EC4-A7D57C94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2BF9-482A-4326-BC6C-A0107C7C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A735-6823-4316-87F5-D3687A0626B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.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6.0.20100930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9-30T11:16:10Z</dcterms:modified>
  <cp:revision>102</cp:revision>
  <dc:subject/>
  <dc:title>投影片 1</dc:title>
</cp:coreProperties>
</file>